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55FB2-4024-4AC9-A96B-143A73EBC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CB2F6-1BEC-4FFA-A829-262D2259C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663AB-18EC-4898-A995-26F0A715A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081C9-689E-4F8C-9A94-5323B291F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C6D0-AE3F-4F80-B2E8-11E22D51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C3810-8E11-4586-928E-E751F8C41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ED074-BC3C-4F1E-80DE-4A314599B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6BCCB-835D-4C57-9795-4613B71FE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5BC0A-753B-498D-99DD-ADBD1E4FF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DB2F0-70A4-4946-B821-D9BF10445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EFC5E-1F36-4F8D-A290-B228F62B8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B2784-9A3E-47A1-9134-E26AE4F3E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2E88-E61C-429A-96E7-EFC20D036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828800" y="3143160"/>
            <a:ext cx="6400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daptat după Manualul de Fizică, clasa a IX-a, Mircea Nistor,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2f"/>
            </a:gs>
            <a:gs pos="100000">
              <a:srgbClr val="cc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Elev</cp:lastModifiedBy>
  <dcterms:modified xsi:type="dcterms:W3CDTF">2012-06-18T11:09:06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